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327-521C-4F53-B6B4-FDB8F332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9EC-CC30-46B6-B15C-50ADA925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FFB-24E8-4B0C-8AB0-7B5399EA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A30-02E5-490D-99F8-6AE4BAE2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482-7257-458D-A75F-4C191DBA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C37-236C-478F-AFB1-6C4995C4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3D5-2DA2-4600-A0A0-6726A030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FED-03D3-42C4-B82F-81151E23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FB3-DB39-498B-8BC4-DA175092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242-E393-461E-96A2-4CFCDBB8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165-4A46-4435-BD31-04341F7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10F-05CB-45CE-A081-90FB8DDE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2304-3B88-4824-9261-BF4859A35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1</cp:lastModifiedBy>
  <dcterms:modified xsi:type="dcterms:W3CDTF">2012-06-19T11:14:12Z</dcterms:modified>
  <cp:revision>2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